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D9D-B725-4BDD-80D3-4A6E0D05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D62E-0EEA-44F4-AE55-84B7F406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F2D-FE3F-465A-8109-AF449D89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E18-9EB4-4424-ADF2-F7ECFE5F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586-98E4-49A2-B787-E72EB10D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9BF-2823-4B3C-ADCF-8C4C96CC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816-71E1-4871-B1BA-1051129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8F6-5947-46C5-B2B8-4A801867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026-946C-4BBA-9E68-3B9671F3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220-46D3-45A3-84B5-9FFAB349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7D2-F3E0-4AB0-A585-FF73228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A4F-54DB-42C5-A043-41A8057A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9C4F-4B2F-4D2E-BB9A-080F0240A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-start.ru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4D82-54A8-4113-8ECC-25E690788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reeWebPageBackgrounds-main_Full"/>
          <p:cNvPicPr/>
          <p:nvPr/>
        </p:nvPicPr>
        <p:blipFill>
          <a:blip r:embed="rId1"/>
          <a:stretch/>
        </p:blipFill>
        <p:spPr>
          <a:xfrm>
            <a:off x="0" y="0"/>
            <a:ext cx="6854760" cy="9199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066320" y="644400"/>
            <a:ext cx="46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У ДОД ДДТ «Городской» им. С. А. Шма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743120" y="171612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530520" y="5823000"/>
            <a:ext cx="294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даг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п.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улыгина Т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2844000" y="8505720"/>
            <a:ext cx="15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пецк, 201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533600" y="3021120"/>
            <a:ext cx="34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Легко взаимодействуем с детьм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images (2)"/>
          <p:cNvPicPr/>
          <p:nvPr/>
        </p:nvPicPr>
        <p:blipFill>
          <a:blip r:embed="rId2"/>
          <a:stretch/>
        </p:blipFill>
        <p:spPr>
          <a:xfrm>
            <a:off x="676440" y="4370400"/>
            <a:ext cx="23414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BBF6-14A8-432F-AB98-6B379701C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-17640" y="36360"/>
            <a:ext cx="6869160" cy="914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420840" y="169920"/>
            <a:ext cx="6323040" cy="74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избавить ребенка от надоевшей роли дома и вне д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зрослый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ша, ты страшная болтушк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никому не даешь и слова встав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место того чтобы приклеивать ярлыки, вы можете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Дать ребенку возможность увидеть себя с новой сторо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Какое самообладание! Хоть тебе есть что сказать, ты понимаешь, что другим тоже хочется высказаться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ставить ребенка в ситуацию, в которой он увидит себя с иной сторо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Даша, мне бы хотелось, чтобы ты возглавила наше собрание и дала всем возможность высказатьс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Дать ребенку возможность услышать, как вы позитивно его оценива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У Даши так много блестящих идей, что ей трудно удержаться. Тем не менее она старается держать себя в рука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Смоделировать желаемое повед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О, мне очень жаль, я не хотела тебя перебивать. Пожалуйста, продолжай. Я подожд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Напомнить ребенку о его прошлых достиж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Я помню, как мы обсуждали смертную казнь. Ты тихо слушала, но когда выступила, то многие изменили свою точку зрени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 Высказать свои чувства и/или ожи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Даша, когда высказаться должны многие, мне бы хотелось, чтобы ты была кратко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291360" y="8556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1AF5-2970-436A-B32D-E8BC84251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11160" y="36360"/>
            <a:ext cx="6754680" cy="9028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404640" y="169236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95200" y="-158760"/>
            <a:ext cx="6343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74560" y="241200"/>
            <a:ext cx="602460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бенок – это чудо, которое живет рядом с нами.  Мы стараемся его оберегать и помогать в развитии. Мы продолжаем задавать себе вопросы: «КАК – общаться, воспитывать, заставлять, наказывать, исправлять?». Для разумных ответов нам нужны знания природы и свойств этого «чуда».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иппенрейтер Ю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литесь информац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итуац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ебенок берет два апельсина, съедает только один, а второй апельсин и очистки бросает на кухонном сто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бычная реакц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иказать («Немедленно убери апельсин и выброси очистки!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твет от ребенка можно ждать трех реакции: он или подчиняется, или уклоняется, или открыто против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аша цель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звивать у ребенка чувство ответств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тобы помочь, объясняйте, показывайте, давайте ему ориенти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авайте ему точные указания относительно того, что ему следует сдел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тобы увеличить шансы на то, что ребенок сам станет поступать правильно, обучайте его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Апельсин, который ты съел, кладется в холодильник, а очистки выбрасываются в мусорное ведр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Важно следить за своей интонацией и не сообщать ребенку то, о чем он и так знает, вроде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Мусорное ведро- это место, куда выбрасываются отходы». Ребенок может разозлиться: «Ты меня за дурака держишь?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61200" y="860436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1238-A0DE-408F-8094-E2187E0E3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FreeWebPageBackgrounds-main_Full"/>
          <p:cNvPicPr/>
          <p:nvPr/>
        </p:nvPicPr>
        <p:blipFill>
          <a:blip r:embed="rId1"/>
          <a:stretch/>
        </p:blipFill>
        <p:spPr>
          <a:xfrm>
            <a:off x="39600" y="36360"/>
            <a:ext cx="6726240" cy="9028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168120" y="1279440"/>
            <a:ext cx="556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85640" y="1141560"/>
            <a:ext cx="611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12840" y="1927080"/>
            <a:ext cx="48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295200" y="163440"/>
            <a:ext cx="6272280" cy="63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егда ли вопрос требует отв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итуация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ребенок донимает вопросами: «Почему я должен ходить в школу?», «Почему всегда решаете именно вы?.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асто бывает так, что родители отвечают на заданный вопрос, а ребенок спустя несколько дней повторяет его снова. За многими вопросами скрыты его переживания. Ответ «Ты должен ходить в школу, чтобы учиться», ничем не поможет, если ребенок хотел сказать: «Я боюсь туда ходить, потому что за мной гоняется мальчик из пятого класс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чая, мы укрепляем в ребенке уверенность, что он все еще в нас нуждается. На самом дел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спрашивает потому, что это легче, чем подумать само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ажное умение - искать ответ. Самостоятельно найденное решение прибавляет уверенности в себе. Воздерживайтесь от ответа, когда ребенок может найти его    самостояте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рните его вопрос, помогите ему поразмышлят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Интересный вопрос! где бы это узнать?», «А ты сам как считаешь?», «Задумайся, а что если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239160" y="8558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3889-B454-4F99-9866-C8B364DDA8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FreeWebPageBackgrounds-main_Full"/>
          <p:cNvPicPr/>
          <p:nvPr/>
        </p:nvPicPr>
        <p:blipFill>
          <a:blip r:embed="rId1"/>
          <a:stretch/>
        </p:blipFill>
        <p:spPr>
          <a:xfrm>
            <a:off x="-6480" y="0"/>
            <a:ext cx="6840720" cy="9086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455760" y="57240"/>
            <a:ext cx="613224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 забывайте, что под влиянием опыта общения со взрослыми у ребенка не только формируются критерии оценки себя и других, но и зарождается очень важная способность –сочувствовать другим людям, переживать чужие горести и радости как собственны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общении со взрослыми и сверстниками он впервые осознает, что нужно учитывать не только свою, но и чужую точку зрения. Именно с налаженной системы взаимоотношений ребенка со взрослым и начинается ориентация ребенка на других, тем более что он также нуждается в признании окружающих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кажите конструктивное рус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25520" y="3119400"/>
            <a:ext cx="6189480" cy="36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склонны ругать ребенка за дурное поведение. Но подчеркивать, чего он делать не должен,- плохая идея. Мозг не фиксирует отриц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примеру, вам говорят: «не думайте о жирафе». И что же? В мозгу всплывает образ жирафа. Всякий запрет, формулированный через отрицание, привлекает внимание к содержанию запр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сдержанное и раздражающее поведение ребенка, часто вызвано тем, что он не знает, куда направить свою энергию. Мается без цели, скучает, ищет чем бы развлечься, ерзает, шумит…И замечаниями тут не поможеш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и дети развивают огромную энергию, когда у них есть важное д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14360" y="6281640"/>
            <a:ext cx="6012000" cy="27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обходимо помочь ребенку использовать его энерг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«мирных цел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огите найти цель, миссию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храна природы, волонтерство, археология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   Задавайте напра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ы можешь предложить фрукты гостям… », «Сначала мы угостим самых маленьки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363000" y="8556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E5F-E19F-40E9-8E1D-C5ECF6503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96840" y="36360"/>
            <a:ext cx="6669000" cy="9028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333360" y="1835280"/>
            <a:ext cx="590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03280" y="3340080"/>
            <a:ext cx="59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82760" y="507960"/>
            <a:ext cx="5967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одители! Взрослы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ваших силах воспитать личность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здать (или вернуть) мир в семье, наладить взаимоотношения, сделать шаг навстречу. Ведь у вас больше знаний, больше способности контролировать себя, больше жизненного опы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ремени, сил, энергии, желания, физических и душевных затрат такой метод воспитания требует много, но жизнь и будущее ребенка стоят того, не правда ли?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291360" y="84837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39D4-1BA6-4E46-B777-2D68F92F5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96840" y="36360"/>
            <a:ext cx="6669000" cy="90284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413000" y="250920"/>
            <a:ext cx="4557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85680" y="60156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41200" y="5240160"/>
            <a:ext cx="520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85640" y="193680"/>
            <a:ext cx="6139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исок рекомендуемой литерату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иппенрейтер Ю.Б. Продолжаем общаться с ребенком. Так?: АСТ, Астрель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М.: 200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рчак Я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Как любить ребенка. -М.: Книга, 198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ик души, или как подобрать ключик к ребенк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лектронный ресур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y-start.ru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бер А., Мазлиш Э. Как говорить с детьми, чтобы они учились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М.: Эксмо, 201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бер А., Мазлиш Э. Как говорить, чтобы дети слушали, и как слушать, чтобы дети говорили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М.:Эксмо, 201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ийоза И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 шагов к тому, чтобы дети слушались родителей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Издательский дом "АФС", 200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310440" y="8558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7699-C406-4831-AA21-EB526D56B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96840" y="36360"/>
            <a:ext cx="6669000" cy="9028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92280" y="250920"/>
            <a:ext cx="524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42DF-B9E2-4298-83B7-A910A0D43E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14400" y="30240"/>
            <a:ext cx="6834240" cy="9112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88840" y="63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19A0-67BB-44A9-AD50-52B0582B6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33480" y="42840"/>
            <a:ext cx="6748200" cy="9029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92280" y="250920"/>
            <a:ext cx="5313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C0D4-C8A2-4D56-89E2-9586D46AF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FreeWebPageBackgrounds-main_Full"/>
          <p:cNvPicPr/>
          <p:nvPr/>
        </p:nvPicPr>
        <p:blipFill>
          <a:blip r:embed="rId1"/>
          <a:stretch/>
        </p:blipFill>
        <p:spPr>
          <a:xfrm>
            <a:off x="96840" y="36360"/>
            <a:ext cx="6669000" cy="9028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68120" y="1279440"/>
            <a:ext cx="556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00120" y="990720"/>
            <a:ext cx="606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12840" y="1927080"/>
            <a:ext cx="48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1C6B-2F6D-4711-B875-4126D160D1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-3240" y="50760"/>
            <a:ext cx="6826320" cy="9124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01480" y="65160"/>
            <a:ext cx="589932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анном издании использованы идеи профессиональных психологов, педагогов, философов и мыс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бираются и объясняются важные подробности и приемы искусства эффективного общения взрослых с деть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комендации разработаны на основе изучения и анализа отечественного и зарубежного опыта по проблеме взаимоотношений взрослых с детьми. Позволяют научиться понимать мысли, чувства, причины поведения ребенка в различных ситуац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 адресованы родителям, которые занимают активную позицию в воспитании своих детей, педагогам, у которых есть стремление стать высококлассными специалистами в своей области, уметь просто и легко справляться с детским непослушанием, овладеть стратегиями, которые помогут пробудить в воспитанниках их лучшие качества и закрепить результат, а так же другим специалистам, занимающимся обучением и развитием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383160" y="86295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A87D-70F8-452B-B6C5-8D111D45B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15840" y="28440"/>
            <a:ext cx="6794640" cy="9072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534960" y="1749600"/>
            <a:ext cx="603396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ериод детства, отрочества и юности складываются основные структуры личности, качественные характеристики которой, в существенной степени зависят от степени педагогизации окружающей сре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жной частью общественного развития является гармонизация взаимоотношений общества с каждой отдельно взятой личностью, ее социализация. В развитии ребёнка, решающую роль играет окружающая его среда: первое место принадлежит семье и школе, в том числе дополнительному образова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ние ребенка — серьезный и ответственный процесс, от качества которого зависит будущее личности и нового поколения в це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то, что будет вложено родителями в раннее воспитание и развитие детей, затем будет проявляться и сказываться, когда воспитание ребят дошкольного возраста ляжет также и на плечи педагогов, например, в группе раннего детского развития, в системе дополнительного обра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учение и воспитание включают в себя не только воспитание родителями, но также и воспитание, и развитие детей в школах, учреждениях дополнительного образования, развивающих секциях, высших учебных заведени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этих социальных институтах лежит также большая ответственность за обучение детей, их нравственное и физическое развит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85640" y="243000"/>
            <a:ext cx="60962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бенок понимает отношение к нему родителей и учителей по тому, как они разговаривают с ним. Слова взрослых влияют на самооценку ребенка и его чувство собственного достоинства. Речь взрослых  в значительной степени определяет судьбу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инотт 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362640" y="8556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8F95-5B41-47CA-9DDE-07D036CE9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33480" y="42840"/>
            <a:ext cx="6748200" cy="90298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14440" y="176040"/>
            <a:ext cx="5970600" cy="40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жизни детей на пути взросления разочарований и огорчений бывает много. Порой им кажется, что их потеря (разочарование) настолько велика, что они этого не переживут (зависит от возраста и темперамента ребенк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одитель просто обязан научить ребенка переживать огорчения, неприятности и потери. И прежде всего разрешить ему иметь и выражать свои чувства. А далее – высказать сочувствие, поддержку, помочь собраться и внушить, что практически из любой ситуации есть выход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лавное при этом – не перегибать с собственной реакцией и не убеждать ребенка, будто все, что бы ни случилось, - ерунда, пустя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99960" y="3649680"/>
            <a:ext cx="624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92120" y="4064040"/>
            <a:ext cx="629460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частую ребенок сам  может решить пробл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, что ему нужно,- немного времени, чтобы поделиться своими эмоциями и подумать над ситуацией. Часто достаточно молча его выслуша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огда прямой вопрос «Что случилось?» помогает ребенку выразить свои чувства и выработать свою позицию. Не страшно, если он сначала ответит: «Не знаю». Он и не может знать, пока спокойно не ответ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тобы показать, как внимательно вы слушаете, вы можете вставлять восклиц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«Ого!», «Да?», «Ну и ну!»)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но не стоит задавать вопросы и коммент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6362640" y="8556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0DE7-1D38-40F7-B57F-184E42530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33480" y="42840"/>
            <a:ext cx="6748200" cy="9029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00040" y="235080"/>
            <a:ext cx="6137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мейте не только слышать, но и слуш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ь - значит уделять внимание, уважать чувства и способ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ть ключевые правила активного слушания. Вот о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  Доброжелательный настрой. Спокойно реагируйте на все, что говорит собеседник. Никаких личных оценок и замечаний к сказанно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 Не устраивайте расспросы. Стройте предложения в утвердительной фор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  Делайте паузу. Дайте собеседнику время подум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 Не бойтесь делать ошибочные предположения насчет испытываемых собеседником чувств. Если что не так, собеседник поправит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   Зрительный контакт: пусть ваши глаза находятся с глазами собеседника на одном уров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. Если вы понимаете, что собеседник не настроен на разговоры и откровенность, то оставьте его в пок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383160" y="8532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4671-4E94-4B26-AE00-6D79D4D7F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11160" y="36360"/>
            <a:ext cx="6754680" cy="9028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471600" y="179280"/>
            <a:ext cx="60069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увства детей нужно признавать дома и вне д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бенок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Я получил двойку всего лишь из-за нескольких дурацких ошибо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зрослый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Не волнуйся. В следующий раз у тебя все получ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место того чтобы принижать значение чувств ребенка, вы мож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дтвердить чувства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Похоже, что ты сильно расстроен. Очень обидно знать ответ и получить низкую оценку из-за простой описк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роявить солидарность с чувствами ребенка с помощью звуков или сл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О!», «М-м-м», «Да, да», «Понимаю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Предложить ребенку в виде фантазии то, чего вы не можете дать в реа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А здорово было бы иметь волшебный карандаш, который переставал бы писать, когда делаешь ошибку!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Принять чувства ребенка даже в том случае, если вы вынуждены призвать его к прекращению неприемлемого по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ы все еще расстроен из-за плохой оценки, но не следует пинать стол. Это неправильно. Лучше расскажи мне о том, что тебя тревожит, или можешь все это нарисова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310080" y="8532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991C-80D5-4AE2-A251-C6591B4B1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96840" y="36360"/>
            <a:ext cx="6669000" cy="9028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11200" y="298440"/>
            <a:ext cx="60325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добиться взаимодействия дома и вне д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зрослый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то насорил на пол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место того чтобы допрашивать и критиковать, вы мож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Описать пробл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Я вижу на полу сырую краск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ать информа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Легче всего отмыть краску, пока она не засохл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Предложите выб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ы можешь протереть пол влажной тряпкой или губк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Показать свое отношение, словом или жес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Краска!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Описать свои чув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Мне не нравится, когда пол заляпан краск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Написать запис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 Вниманию всех художнико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шу привести пол в исходное состояние перед уходом. Благодарим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ководство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291360" y="8556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9839-D0F6-45D7-87F7-B8B71AABC8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96840" y="36360"/>
            <a:ext cx="6669000" cy="9028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54040" y="262080"/>
            <a:ext cx="575784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ьтернативные варианты наказа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бенок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Черт побери! Я не могу решить этот прим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зрослый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много раз говорил тебе, чтобы ты не сквернословил. Теперь ты будешь наказан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место угрозы и наказания вы мож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Указать способ правильного по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Я  понимаю, что расстроен. Но было бы лучше, если бы ты сообщил о своих чувствах, не сквернослов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Высказать свое неодобрение (без личных выпад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акие слова мне не нравятс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Высказать свои ожи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Надеюсь, ты найдешь другой способ показать мне, насколько ты расстроен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Объяснить, как ребенок может исправить ситуа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Мне бы хотелось, чтобы ты составил список слов, которые можно было бы использовать вместо тех, что произнес. Если тебе нужна помощь, возьми словар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редложить выб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ы можешь пользоваться такими словами мысленно, не произнося их вслух, или выбирать такие слова, которые никого не оскорбляю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Показать ребенку последствия его по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Когда я слышу подобные слова, у меня пропадает всякое желание помогать тебе решать примеры или делать что-нибудь ещ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310080" y="8532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491508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93F0-FDD7-4869-B126-FC9C07CFC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reeWebPageBackgrounds-main_Full"/>
          <p:cNvPicPr/>
          <p:nvPr/>
        </p:nvPicPr>
        <p:blipFill>
          <a:blip r:embed="rId1"/>
          <a:stretch/>
        </p:blipFill>
        <p:spPr>
          <a:xfrm>
            <a:off x="-3240" y="36360"/>
            <a:ext cx="6854760" cy="9142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90600" y="182520"/>
            <a:ext cx="618012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дохновляющая похвала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руктивные реакции дома и вне д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бенок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написал стихотворение о поезде. Вам нравит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зрослый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лично! Ты – настоящий поэ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место того чтобы оценивать, вы мож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Описать то, что услышали или увид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ебе удалось передать стук колес поезда. Ты нашел хорошие рифмы…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Описать свои чув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Мне показалось, что я действительно сижу в вагоне поезда,                                             который несется по равни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зрослый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мотри только, сколько ошибок ты сделал! Ты можешь работать лучш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место того чтобы критиковать, вы мож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Указать на то, что еще нужно сдел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Достаточно исправить орфографические ошибки в паре слов, и твое стихотворение можно печатать в журнале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383160" y="8558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1:40:29Z</dcterms:created>
  <dc:creator>User</dc:creator>
  <dc:description/>
  <dc:language>en-US</dc:language>
  <cp:lastModifiedBy>Dancer</cp:lastModifiedBy>
  <dcterms:modified xsi:type="dcterms:W3CDTF">2020-02-23T13:16:13Z</dcterms:modified>
  <cp:revision>49</cp:revision>
  <dc:subject/>
  <dc:title>Слайд 1</dc:title>
</cp:coreProperties>
</file>