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189-AB53-40A9-BB30-8114019B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E53-7593-4C16-8E59-259E91C8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3BA-7DE0-4DB1-A3D9-D5F7ABE9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D8F-ADD8-42B7-A7A1-500C8C82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015-0873-4A64-B437-5A44428F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E66-1FFA-40C7-9F01-2E8A2852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438-953D-4891-AB15-94749E8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CD7-2687-4690-93B6-B2C8D645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0FD-AF57-464F-9F6A-C176CC66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C88-E7B0-4F94-9FED-92270C76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095-754F-4EE4-ABE7-E50C82C1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C25-085D-4580-B174-5B0EF80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37D0-C02B-4983-A8A5-04C6F9582A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851280" y="6021360"/>
            <a:ext cx="136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2021 г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8000" y="11592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549360"/>
            <a:ext cx="58323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рмирование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бной мотивации школьников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к средство повышения эффективности познавательного процесса</a:t>
            </a:r>
            <a:br>
              <a:rPr sz="2400"/>
            </a:b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7" name="Picture 5" descr="094"/>
          <p:cNvPicPr/>
          <p:nvPr/>
        </p:nvPicPr>
        <p:blipFill>
          <a:blip r:embed="rId1"/>
          <a:stretch/>
        </p:blipFill>
        <p:spPr>
          <a:xfrm>
            <a:off x="2050920" y="3789360"/>
            <a:ext cx="1295640" cy="1292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015"/>
          <p:cNvPicPr/>
          <p:nvPr/>
        </p:nvPicPr>
        <p:blipFill>
          <a:blip r:embed="rId2"/>
          <a:stretch/>
        </p:blipFill>
        <p:spPr>
          <a:xfrm>
            <a:off x="6372360" y="260280"/>
            <a:ext cx="1752480" cy="101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089"/>
          <p:cNvPicPr/>
          <p:nvPr/>
        </p:nvPicPr>
        <p:blipFill>
          <a:blip r:embed="rId3"/>
          <a:stretch/>
        </p:blipFill>
        <p:spPr>
          <a:xfrm>
            <a:off x="5724360" y="3213000"/>
            <a:ext cx="1190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Дата 2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Нижний колонтитул 3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276120"/>
          <a:ext cx="9144000" cy="65898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одержательные</a:t>
                      </a:r>
                      <a:endParaRPr b="1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рганизационные</a:t>
                      </a:r>
                      <a:endParaRPr b="1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оциально-психологические</a:t>
                      </a:r>
                      <a:endParaRPr b="1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1. Особый подход к освоению учебного материала: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а) аналитический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(разъяснительный, критический, логический, проблемный);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б) деловой;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в) необычный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2. а) Использование наглядности, выделение главного, важность отдельных частей;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б) Трудность, сложность (простота, доступность);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в) Историзм, современные достижения науки;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г) Интересные факты, противоречия, парадоксы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3. Задания с интересным содержанием, занимательными вопросами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4. Подчеркивание общественной и личностной значимости знаний, умений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5. Межпредметные связи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1. Целевая установка на работу, ее краткая характеристика, постановка задач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2. Предъявление требований к учащимся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а) По содержанию: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 к дисциплине;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 к работе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б) По форме: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 развернутые (алгоритмы);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 свернутые (указания, замечания, мимика);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 единые индивидуально-групповые, общие и детальные, прямые и косвенные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3. Применение различных форм учебной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ы: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 диалог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дискуссия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диспут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игра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соревнование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4. Анализ ошибок и оказание необходимой помощи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5. Контроль за деятельностью учащихся: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 тщательный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 беглый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- взаимо-  и самоконтроль, оценка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6. Четкое использование ТСО, наглядности, дидактических материалов, красочных пособий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buClr>
                          <a:srgbClr val="66ccff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каз достижений учащихся, проявление доверия к их силам и возможностям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buClr>
                          <a:srgbClr val="66ccff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явление личного отношения учителя к учащимся, к классу, высказывание собственного мнения. 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buClr>
                          <a:srgbClr val="66ccff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явление учителем собственных качеств, данных личности (в плане общения, эрудиции, отношения к предмету, деловых качеств) и побуждение учащихся к подобным проявлениям. 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4. Организация дружеских взаимоотношений в коллективе (взаимопроверка, обмен мнениями, взаимопомощь).</a:t>
                      </a:r>
                      <a:endParaRPr b="1" lang="en-US" sz="1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3"/>
          <p:cNvSpPr/>
          <p:nvPr/>
        </p:nvSpPr>
        <p:spPr>
          <a:xfrm>
            <a:off x="7164360" y="0"/>
            <a:ext cx="1871640" cy="189000"/>
          </a:xfrm>
          <a:prstGeom prst="rect">
            <a:avLst/>
          </a:prstGeom>
          <a:solidFill>
            <a:srgbClr val="1b9ad9"/>
          </a:solidFill>
          <a:ln w="93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7667640" y="6524640"/>
            <a:ext cx="115236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4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тив – это смысл поведения и деятельности человека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ли же все то, ради чего происходит активность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Л.И. Божович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отребность – деятельность – мотив – цель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Мотив</a:t>
            </a: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d528d"/>
                </a:solidFill>
                <a:latin typeface="Verdana"/>
              </a:rPr>
              <a:t>это побуждение к деятельности, то ради чего учащийся совершает  ту или иную деятельность</a:t>
            </a:r>
            <a:r>
              <a:rPr b="1" i="1" lang="en-US" sz="1400" spc="-1" strike="noStrike">
                <a:solidFill>
                  <a:srgbClr val="1d528d"/>
                </a:solidFill>
                <a:latin typeface="Verdana"/>
              </a:rPr>
              <a:t>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вязанная деятельность может быть мотивирована:</a:t>
            </a:r>
            <a:endParaRPr b="1" lang="en-US" sz="12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Verdana"/>
              </a:rPr>
              <a:t>Стремлением к безопасности;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Verdana"/>
              </a:rPr>
              <a:t>Желанием избежать наказания;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Verdana"/>
              </a:rPr>
              <a:t>Желанием избежать неприятностей при попытке уйти от нее;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Verdana"/>
              </a:rPr>
              <a:t>(Например, если ребенок учится, чтобы избежать плохой отметки, наказания, то он учится с постоянным напряжением, учение его лишено радости и удовлетворения.)</a:t>
            </a:r>
            <a:endParaRPr b="1" lang="en-US" sz="12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Verdana"/>
              </a:rPr>
              <a:t>Мотивы оказывают влияние на характер учебной деятельности, отношение ребенка к учителю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Цель</a:t>
            </a:r>
            <a:r>
              <a:rPr b="1" lang="ru-RU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d528d"/>
                </a:solidFill>
                <a:latin typeface="Verdana"/>
              </a:rPr>
              <a:t>представляемый и осознаваемый результат деятельности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Verdana"/>
              </a:rPr>
              <a:t>Цели ясны и педагогу, и ученику и ставятся на уроке в четкой форме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Verdana"/>
              </a:rPr>
              <a:t>Мотивы же не всегда ясны учителю, да и самому ученику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Verdana"/>
              </a:rPr>
              <a:t>В зависимости от того, каков мотив деятельности, цель приобретает для ребенка различный смысл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Verdana"/>
              </a:rPr>
              <a:t>(Например, ребенок решает задачу. Цель – найти решение.</a:t>
            </a: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1d528d"/>
                </a:solidFill>
                <a:latin typeface="Verdana"/>
              </a:rPr>
              <a:t>Мотив же может быть различным:</a:t>
            </a:r>
            <a:endParaRPr b="1" lang="en-US" sz="12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Verdana"/>
              </a:rPr>
              <a:t>а) научиться решать задачу; б) не огорчать учителя; в) порадовать родителя хорошей отметкой.)</a:t>
            </a:r>
            <a:endParaRPr b="1" lang="en-US" sz="12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Verdana"/>
              </a:rPr>
              <a:t>               </a:t>
            </a:r>
            <a:endParaRPr b="1" lang="en-US" sz="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164360" y="0"/>
            <a:ext cx="1800360" cy="189000"/>
          </a:xfrm>
          <a:prstGeom prst="rect">
            <a:avLst/>
          </a:prstGeom>
          <a:solidFill>
            <a:srgbClr val="1b9ad9"/>
          </a:solidFill>
          <a:ln w="93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596360" y="6524640"/>
            <a:ext cx="1296720" cy="2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d528d"/>
                </a:solidFill>
                <a:latin typeface="Verdana"/>
              </a:rPr>
              <a:t>Причины нежелания учитьс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0" y="907920"/>
            <a:ext cx="7754760" cy="5616720"/>
          </a:xfrm>
          <a:prstGeom prst="rightArrow">
            <a:avLst>
              <a:gd name="adj1" fmla="val 79306"/>
              <a:gd name="adj2" fmla="val 34197"/>
            </a:avLst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0" y="1628640"/>
            <a:ext cx="6300720" cy="505080"/>
          </a:xfrm>
          <a:prstGeom prst="roundRect">
            <a:avLst>
              <a:gd name="adj" fmla="val 9106"/>
            </a:avLst>
          </a:prstGeom>
          <a:solidFill>
            <a:srgbClr val="d7f81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умение учиться и преодолевать трудности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ознавательной деятельности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0" y="2205000"/>
            <a:ext cx="6300720" cy="57636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Большой объем школьного материала,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который нужно усвоить и запомнить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0" y="2852640"/>
            <a:ext cx="6372360" cy="6476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4db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Бедность  и стереотипность в выборе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етодических приемов, применяемых на уроке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 rot="5400000">
            <a:off x="6986160" y="3246480"/>
            <a:ext cx="2514600" cy="863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Arial"/>
              </a:rPr>
              <a:t>Причины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0" y="3573360"/>
            <a:ext cx="6372360" cy="360360"/>
          </a:xfrm>
          <a:prstGeom prst="roundRect">
            <a:avLst>
              <a:gd name="adj" fmla="val 9106"/>
            </a:avLst>
          </a:prstGeom>
          <a:solidFill>
            <a:srgbClr val="cc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Однообразие учебного процесс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0" y="4005360"/>
            <a:ext cx="6372360" cy="576000"/>
          </a:xfrm>
          <a:prstGeom prst="roundRect">
            <a:avLst>
              <a:gd name="adj" fmla="val 9106"/>
            </a:avLst>
          </a:prstGeom>
          <a:solidFill>
            <a:srgbClr val="cc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Отвлекающие факторы полнокровной 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детской жизни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0" y="4653000"/>
            <a:ext cx="6372360" cy="57636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Авторитарная позиция родителей и учителей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93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076720" y="3352680"/>
            <a:ext cx="3888000" cy="2667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9280" y="3357720"/>
            <a:ext cx="2880000" cy="295092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950920"/>
              <a:gd name="textAreaBottom" fmla="*/ 2810520 h 2950920"/>
            </a:gdLst>
            <a:ahLst/>
            <a:rect l="textAreaLeft" t="textAreaTop" r="textAreaRight" b="textAreaBottom"/>
            <a:pathLst>
              <a:path w="21600" h="22132">
                <a:moveTo>
                  <a:pt x="3600" y="0"/>
                </a:moveTo>
                <a:arcTo wR="3600" hR="3600" stAng="16200000" swAng="-5400000"/>
                <a:lnTo>
                  <a:pt x="0" y="18532"/>
                </a:lnTo>
                <a:arcTo wR="3600" hR="3600" stAng="10800000" swAng="-5400000"/>
                <a:lnTo>
                  <a:pt x="18000" y="221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3500280"/>
            <a:ext cx="26863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Широкие социальные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тремление хорошо окончить школу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ступить в вуз;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хорошо работать в будущем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3132000" y="2708280"/>
            <a:ext cx="863640" cy="1584360"/>
          </a:xfrm>
          <a:custGeom>
            <a:avLst/>
            <a:gdLst>
              <a:gd name="textAreaLeft" fmla="*/ 0 w 863640"/>
              <a:gd name="textAreaRight" fmla="*/ 864000 w 863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4a04e"/>
              </a:gs>
              <a:gs pos="100000">
                <a:srgbClr val="eec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 flipH="1">
            <a:off x="4067280" y="2708280"/>
            <a:ext cx="976320" cy="1746360"/>
          </a:xfrm>
          <a:custGeom>
            <a:avLst/>
            <a:gdLst>
              <a:gd name="textAreaLeft" fmla="*/ 360 w 976320"/>
              <a:gd name="textAreaRight" fmla="*/ 977040 w 97632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2124000" y="1125360"/>
            <a:ext cx="4464720" cy="1601640"/>
            <a:chOff x="2124000" y="1125360"/>
            <a:chExt cx="4464720" cy="1601640"/>
          </a:xfrm>
        </p:grpSpPr>
        <p:grpSp>
          <p:nvGrpSpPr>
            <p:cNvPr id="118" name="Group 10"/>
            <p:cNvGrpSpPr/>
            <p:nvPr/>
          </p:nvGrpSpPr>
          <p:grpSpPr>
            <a:xfrm>
              <a:off x="2124000" y="1268280"/>
              <a:ext cx="4464720" cy="1458720"/>
              <a:chOff x="2124000" y="1268280"/>
              <a:chExt cx="4464720" cy="1458720"/>
            </a:xfrm>
          </p:grpSpPr>
          <p:sp>
            <p:nvSpPr>
              <p:cNvPr id="119" name="Oval 11"/>
              <p:cNvSpPr/>
              <p:nvPr/>
            </p:nvSpPr>
            <p:spPr>
              <a:xfrm>
                <a:off x="2172600" y="1314720"/>
                <a:ext cx="4416120" cy="1412280"/>
              </a:xfrm>
              <a:prstGeom prst="ellipse">
                <a:avLst/>
              </a:prstGeom>
              <a:gradFill rotWithShape="0">
                <a:gsLst>
                  <a:gs pos="0">
                    <a:srgbClr val="66ccff"/>
                  </a:gs>
                  <a:gs pos="100000">
                    <a:srgbClr val="3263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0" name="Oval 12"/>
              <p:cNvSpPr/>
              <p:nvPr/>
            </p:nvSpPr>
            <p:spPr>
              <a:xfrm>
                <a:off x="2124000" y="1268280"/>
                <a:ext cx="441612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e8ff"/>
                  </a:gs>
                  <a:gs pos="100000">
                    <a:srgbClr val="66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21" name="Oval 13"/>
            <p:cNvSpPr/>
            <p:nvPr/>
          </p:nvSpPr>
          <p:spPr>
            <a:xfrm>
              <a:off x="2334600" y="1125360"/>
              <a:ext cx="3997440" cy="1341720"/>
            </a:xfrm>
            <a:prstGeom prst="ellipse">
              <a:avLst/>
            </a:prstGeom>
            <a:gradFill rotWithShape="0">
              <a:gsLst>
                <a:gs pos="0">
                  <a:srgbClr val="0d4764"/>
                </a:gs>
                <a:gs pos="100000">
                  <a:srgbClr val="1b9a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2386440" y="1133280"/>
              <a:ext cx="3900240" cy="130824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0"/>
                  </a:srgbClr>
                </a:gs>
                <a:gs pos="100000">
                  <a:srgbClr val="afdc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2426760" y="1146240"/>
              <a:ext cx="3711240" cy="1222200"/>
            </a:xfrm>
            <a:prstGeom prst="ellipse">
              <a:avLst/>
            </a:prstGeom>
            <a:gradFill rotWithShape="0">
              <a:gsLst>
                <a:gs pos="0">
                  <a:srgbClr val="157aac"/>
                </a:gs>
                <a:gs pos="100000">
                  <a:srgbClr val="1b9ad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2622960" y="1173240"/>
              <a:ext cx="32666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b9ad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5" name="Text Box 17"/>
          <p:cNvSpPr/>
          <p:nvPr/>
        </p:nvSpPr>
        <p:spPr>
          <a:xfrm>
            <a:off x="3132000" y="1341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d528d"/>
                </a:solidFill>
                <a:latin typeface="Arial"/>
              </a:rPr>
              <a:t>Мотивы</a:t>
            </a:r>
            <a:endParaRPr b="1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219640" y="3357720"/>
            <a:ext cx="39243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Узколичные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(мотивы благополучия, престижа)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лучить хорошую оценку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збежать неприятностей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ыделиться среди других;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нять определенное положение в классе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7164360" y="0"/>
            <a:ext cx="1800360" cy="189000"/>
          </a:xfrm>
          <a:prstGeom prst="rect">
            <a:avLst/>
          </a:prstGeom>
          <a:solidFill>
            <a:srgbClr val="1b9ad9"/>
          </a:solidFill>
          <a:ln w="93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7667640" y="6524640"/>
            <a:ext cx="1225440" cy="2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1d528d"/>
                </a:solidFill>
                <a:latin typeface="Verdana"/>
              </a:rPr>
              <a:t>Методы мотив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1052640"/>
            <a:ext cx="237636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ff"/>
              </a:gs>
              <a:gs pos="100000">
                <a:srgbClr val="eaeaea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4d2"/>
                </a:solidFill>
                <a:latin typeface="Arial"/>
              </a:rPr>
              <a:t>Эмоциональная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44d2"/>
                </a:solidFill>
                <a:latin typeface="Arial"/>
              </a:rPr>
              <a:t>мотивация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Rectangle 48"/>
          <p:cNvSpPr/>
          <p:nvPr/>
        </p:nvSpPr>
        <p:spPr>
          <a:xfrm>
            <a:off x="0" y="1989000"/>
            <a:ext cx="2556000" cy="20142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ощрение;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ситуации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ха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довлетворение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я быть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имым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ллективе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Rectangle 49"/>
          <p:cNvSpPr/>
          <p:nvPr/>
        </p:nvSpPr>
        <p:spPr>
          <a:xfrm>
            <a:off x="2340000" y="2492280"/>
            <a:ext cx="2214360" cy="3934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опора на жизненный опыт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буждение к поиску альтернативных решений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здание проблемной ситуации;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ыполнение творческих заданий, «мозговая атака»;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Rectangle 50"/>
          <p:cNvSpPr/>
          <p:nvPr/>
        </p:nvSpPr>
        <p:spPr>
          <a:xfrm>
            <a:off x="4500720" y="3141720"/>
            <a:ext cx="2158920" cy="13006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едъявление   требований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амооценка деятельности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2268360" y="1628640"/>
            <a:ext cx="2521080" cy="792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44d2"/>
                </a:solidFill>
                <a:latin typeface="Arial"/>
              </a:rPr>
              <a:t>Познавательные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44d2"/>
                </a:solidFill>
                <a:latin typeface="Arial"/>
              </a:rPr>
              <a:t>методы мотивации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Rectangle 51"/>
          <p:cNvSpPr/>
          <p:nvPr/>
        </p:nvSpPr>
        <p:spPr>
          <a:xfrm>
            <a:off x="6676920" y="3357720"/>
            <a:ext cx="2467080" cy="17398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витие желания быть полезным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здание ситуации взаимопомощи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трудничество;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Text Box 53"/>
          <p:cNvSpPr/>
          <p:nvPr/>
        </p:nvSpPr>
        <p:spPr>
          <a:xfrm>
            <a:off x="7596360" y="6597720"/>
            <a:ext cx="122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427640" y="2349360"/>
            <a:ext cx="2448000" cy="789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олевые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тоды мотивации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877080" y="2637000"/>
            <a:ext cx="205740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cff99">
                  <a:alpha val="99215"/>
                </a:srgbClr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циальные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тоды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Rectangle 54"/>
          <p:cNvSpPr/>
          <p:nvPr/>
        </p:nvSpPr>
        <p:spPr>
          <a:xfrm>
            <a:off x="7164360" y="0"/>
            <a:ext cx="1800360" cy="189000"/>
          </a:xfrm>
          <a:prstGeom prst="rect">
            <a:avLst/>
          </a:prstGeom>
          <a:solidFill>
            <a:srgbClr val="1b9ad9"/>
          </a:solidFill>
          <a:ln w="93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Rectangle 55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2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Нижний колонтитул 3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0" y="1052640"/>
            <a:ext cx="3419640" cy="231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я неустойчивая,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интереса к определенным предметам,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способности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тельное время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ерживать энергию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ированного намерения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59"/>
          <p:cNvSpPr/>
          <p:nvPr/>
        </p:nvSpPr>
        <p:spPr>
          <a:xfrm>
            <a:off x="615240" y="5423040"/>
            <a:ext cx="3151080" cy="893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 к предмету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меньшается в пять раз)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61"/>
          <p:cNvSpPr/>
          <p:nvPr/>
        </p:nvSpPr>
        <p:spPr>
          <a:xfrm>
            <a:off x="0" y="3429000"/>
            <a:ext cx="2700360" cy="121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мотивация: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яя,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тижная и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удительная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58"/>
          <p:cNvSpPr/>
          <p:nvPr/>
        </p:nvSpPr>
        <p:spPr>
          <a:xfrm>
            <a:off x="5513760" y="5445000"/>
            <a:ext cx="3242520" cy="89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 избегания санкций,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есть наказания.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Text Box 57"/>
          <p:cNvSpPr/>
          <p:nvPr/>
        </p:nvSpPr>
        <p:spPr>
          <a:xfrm>
            <a:off x="6443640" y="3141720"/>
            <a:ext cx="2700360" cy="1794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тижная мотивация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е получить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ую отметку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озрастает к 3 – 4 классу)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5514480" y="1103400"/>
            <a:ext cx="3660120" cy="130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ство долга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озрастает в два раза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начительно превышает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ую мотивацию)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AutoShape 20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AutoShape 21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AutoShape 22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AutoShape 23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AutoShape 24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AutoShape 25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2916360" y="2205000"/>
            <a:ext cx="3384360" cy="3438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8" name="Group 27"/>
          <p:cNvGrpSpPr/>
          <p:nvPr/>
        </p:nvGrpSpPr>
        <p:grpSpPr>
          <a:xfrm>
            <a:off x="3419640" y="2205000"/>
            <a:ext cx="360360" cy="360360"/>
            <a:chOff x="3419640" y="2205000"/>
            <a:chExt cx="360360" cy="360360"/>
          </a:xfrm>
        </p:grpSpPr>
        <p:sp>
          <p:nvSpPr>
            <p:cNvPr id="159" name="Oval 28"/>
            <p:cNvSpPr/>
            <p:nvPr/>
          </p:nvSpPr>
          <p:spPr>
            <a:xfrm>
              <a:off x="3419640" y="2205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35480" y="2235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1" name="Group 30"/>
          <p:cNvGrpSpPr/>
          <p:nvPr/>
        </p:nvGrpSpPr>
        <p:grpSpPr>
          <a:xfrm>
            <a:off x="2556000" y="3716280"/>
            <a:ext cx="360360" cy="360360"/>
            <a:chOff x="2556000" y="3716280"/>
            <a:chExt cx="360360" cy="360360"/>
          </a:xfrm>
        </p:grpSpPr>
        <p:sp>
          <p:nvSpPr>
            <p:cNvPr id="162" name="Oval 31"/>
            <p:cNvSpPr/>
            <p:nvPr/>
          </p:nvSpPr>
          <p:spPr>
            <a:xfrm>
              <a:off x="2556000" y="3716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Oval 32"/>
            <p:cNvSpPr/>
            <p:nvPr/>
          </p:nvSpPr>
          <p:spPr>
            <a:xfrm>
              <a:off x="2571840" y="3746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4" name="Group 33"/>
          <p:cNvGrpSpPr/>
          <p:nvPr/>
        </p:nvGrpSpPr>
        <p:grpSpPr>
          <a:xfrm>
            <a:off x="3419640" y="5157720"/>
            <a:ext cx="360360" cy="360360"/>
            <a:chOff x="3419640" y="5157720"/>
            <a:chExt cx="360360" cy="360360"/>
          </a:xfrm>
        </p:grpSpPr>
        <p:sp>
          <p:nvSpPr>
            <p:cNvPr id="165" name="Oval 34"/>
            <p:cNvSpPr/>
            <p:nvPr/>
          </p:nvSpPr>
          <p:spPr>
            <a:xfrm>
              <a:off x="3419640" y="5157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3435480" y="5187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5292720" y="2133720"/>
            <a:ext cx="360360" cy="360360"/>
            <a:chOff x="5292720" y="2133720"/>
            <a:chExt cx="360360" cy="360360"/>
          </a:xfrm>
        </p:grpSpPr>
        <p:sp>
          <p:nvSpPr>
            <p:cNvPr id="168" name="Oval 37"/>
            <p:cNvSpPr/>
            <p:nvPr/>
          </p:nvSpPr>
          <p:spPr>
            <a:xfrm>
              <a:off x="5292720" y="2133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Oval 38"/>
            <p:cNvSpPr/>
            <p:nvPr/>
          </p:nvSpPr>
          <p:spPr>
            <a:xfrm>
              <a:off x="5308560" y="2163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6156360" y="3716280"/>
            <a:ext cx="360360" cy="360360"/>
            <a:chOff x="6156360" y="3716280"/>
            <a:chExt cx="360360" cy="360360"/>
          </a:xfrm>
        </p:grpSpPr>
        <p:sp>
          <p:nvSpPr>
            <p:cNvPr id="171" name="Oval 40"/>
            <p:cNvSpPr/>
            <p:nvPr/>
          </p:nvSpPr>
          <p:spPr>
            <a:xfrm>
              <a:off x="6156360" y="3716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Oval 41"/>
            <p:cNvSpPr/>
            <p:nvPr/>
          </p:nvSpPr>
          <p:spPr>
            <a:xfrm>
              <a:off x="6172200" y="3746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73" name="Group 42"/>
          <p:cNvGrpSpPr/>
          <p:nvPr/>
        </p:nvGrpSpPr>
        <p:grpSpPr>
          <a:xfrm>
            <a:off x="5292720" y="5229360"/>
            <a:ext cx="360360" cy="360360"/>
            <a:chOff x="5292720" y="5229360"/>
            <a:chExt cx="360360" cy="360360"/>
          </a:xfrm>
        </p:grpSpPr>
        <p:sp>
          <p:nvSpPr>
            <p:cNvPr id="174" name="Oval 43"/>
            <p:cNvSpPr/>
            <p:nvPr/>
          </p:nvSpPr>
          <p:spPr>
            <a:xfrm>
              <a:off x="5292720" y="5229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Oval 44"/>
            <p:cNvSpPr/>
            <p:nvPr/>
          </p:nvSpPr>
          <p:spPr>
            <a:xfrm>
              <a:off x="5308560" y="52592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76" name="Oval 45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Oval 46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6ccff">
                  <a:alpha val="32156"/>
                </a:srgbClr>
              </a:gs>
              <a:gs pos="100000">
                <a:srgbClr val="2f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Oval 47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76e8a"/>
              </a:gs>
              <a:gs pos="50000">
                <a:srgbClr val="66ccff"/>
              </a:gs>
              <a:gs pos="100000">
                <a:srgbClr val="376e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Oval 48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182a2"/>
              </a:gs>
              <a:gs pos="100000">
                <a:srgbClr val="66cc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0" name="Group 49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181" name="Oval 50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Oval 51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Oval 52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Oval 53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6" name="Text Box 55"/>
          <p:cNvSpPr/>
          <p:nvPr/>
        </p:nvSpPr>
        <p:spPr>
          <a:xfrm>
            <a:off x="3778200" y="3573360"/>
            <a:ext cx="163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ачальное 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звено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Text Box 62"/>
          <p:cNvSpPr/>
          <p:nvPr/>
        </p:nvSpPr>
        <p:spPr>
          <a:xfrm>
            <a:off x="250920" y="26028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d528d"/>
                </a:solidFill>
                <a:latin typeface="Arial"/>
              </a:rPr>
              <a:t>Возрастные характеристики мотивации учения</a:t>
            </a:r>
            <a:endParaRPr b="1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Rectangle 63"/>
          <p:cNvSpPr/>
          <p:nvPr/>
        </p:nvSpPr>
        <p:spPr>
          <a:xfrm>
            <a:off x="7164360" y="0"/>
            <a:ext cx="1979640" cy="189000"/>
          </a:xfrm>
          <a:prstGeom prst="rect">
            <a:avLst/>
          </a:prstGeom>
          <a:solidFill>
            <a:srgbClr val="1b9ad9"/>
          </a:solidFill>
          <a:ln w="93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64"/>
          <p:cNvSpPr/>
          <p:nvPr/>
        </p:nvSpPr>
        <p:spPr>
          <a:xfrm>
            <a:off x="7667640" y="6524640"/>
            <a:ext cx="1225440" cy="2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0360" y="836640"/>
            <a:ext cx="3203640" cy="3085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й интерес только у высокомотивированных. Мотив достижения успеха в учебе не развивается. Мотивация, вызванная подростковыми установками (подсказки, обман учителя и т.д.)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0" y="4294080"/>
            <a:ext cx="3492360" cy="2562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е иметь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ую отметку,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же если она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дкрепляется знаниями,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подтверждение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ого статуса в коллективе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редство самоутверждения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508720" y="5084640"/>
            <a:ext cx="2303280" cy="114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ния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удач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84360" y="1557360"/>
            <a:ext cx="2879640" cy="866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йкий интерес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определенному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у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AutoShape 11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AutoShape 13"/>
          <p:cNvSpPr/>
          <p:nvPr/>
        </p:nvSpPr>
        <p:spPr>
          <a:xfrm rot="7534800">
            <a:off x="3456000" y="4832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2916360" y="2205000"/>
            <a:ext cx="3384360" cy="3438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3492360" y="2205000"/>
            <a:ext cx="360360" cy="360360"/>
            <a:chOff x="3492360" y="2205000"/>
            <a:chExt cx="360360" cy="360360"/>
          </a:xfrm>
        </p:grpSpPr>
        <p:sp>
          <p:nvSpPr>
            <p:cNvPr id="202" name="Oval 18"/>
            <p:cNvSpPr/>
            <p:nvPr/>
          </p:nvSpPr>
          <p:spPr>
            <a:xfrm>
              <a:off x="3492360" y="2205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19"/>
            <p:cNvSpPr/>
            <p:nvPr/>
          </p:nvSpPr>
          <p:spPr>
            <a:xfrm>
              <a:off x="3508200" y="2235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4" name="Group 23"/>
          <p:cNvGrpSpPr/>
          <p:nvPr/>
        </p:nvGrpSpPr>
        <p:grpSpPr>
          <a:xfrm>
            <a:off x="3419640" y="5157720"/>
            <a:ext cx="360360" cy="360360"/>
            <a:chOff x="3419640" y="5157720"/>
            <a:chExt cx="360360" cy="360360"/>
          </a:xfrm>
        </p:grpSpPr>
        <p:sp>
          <p:nvSpPr>
            <p:cNvPr id="205" name="Oval 24"/>
            <p:cNvSpPr/>
            <p:nvPr/>
          </p:nvSpPr>
          <p:spPr>
            <a:xfrm>
              <a:off x="3419640" y="5157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5"/>
            <p:cNvSpPr/>
            <p:nvPr/>
          </p:nvSpPr>
          <p:spPr>
            <a:xfrm>
              <a:off x="3435480" y="5187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7" name="Group 26"/>
          <p:cNvGrpSpPr/>
          <p:nvPr/>
        </p:nvGrpSpPr>
        <p:grpSpPr>
          <a:xfrm>
            <a:off x="5292720" y="2133720"/>
            <a:ext cx="360360" cy="360360"/>
            <a:chOff x="5292720" y="2133720"/>
            <a:chExt cx="360360" cy="360360"/>
          </a:xfrm>
        </p:grpSpPr>
        <p:sp>
          <p:nvSpPr>
            <p:cNvPr id="208" name="Oval 27"/>
            <p:cNvSpPr/>
            <p:nvPr/>
          </p:nvSpPr>
          <p:spPr>
            <a:xfrm>
              <a:off x="5292720" y="2133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Oval 28"/>
            <p:cNvSpPr/>
            <p:nvPr/>
          </p:nvSpPr>
          <p:spPr>
            <a:xfrm>
              <a:off x="5308560" y="2163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0" name="Group 32"/>
          <p:cNvGrpSpPr/>
          <p:nvPr/>
        </p:nvGrpSpPr>
        <p:grpSpPr>
          <a:xfrm>
            <a:off x="5292720" y="5229360"/>
            <a:ext cx="360360" cy="360360"/>
            <a:chOff x="5292720" y="5229360"/>
            <a:chExt cx="360360" cy="360360"/>
          </a:xfrm>
        </p:grpSpPr>
        <p:sp>
          <p:nvSpPr>
            <p:cNvPr id="211" name="Oval 33"/>
            <p:cNvSpPr/>
            <p:nvPr/>
          </p:nvSpPr>
          <p:spPr>
            <a:xfrm>
              <a:off x="5292720" y="5229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Oval 34"/>
            <p:cNvSpPr/>
            <p:nvPr/>
          </p:nvSpPr>
          <p:spPr>
            <a:xfrm>
              <a:off x="5308560" y="52592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3" name="Oval 35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Oval 36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6ccff">
                  <a:alpha val="32156"/>
                </a:srgbClr>
              </a:gs>
              <a:gs pos="100000">
                <a:srgbClr val="2f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Oval 37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76e8a"/>
              </a:gs>
              <a:gs pos="50000">
                <a:srgbClr val="66ccff"/>
              </a:gs>
              <a:gs pos="100000">
                <a:srgbClr val="376e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Oval 38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182a2"/>
              </a:gs>
              <a:gs pos="100000">
                <a:srgbClr val="66cc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7" name="Group 39"/>
          <p:cNvGrpSpPr/>
          <p:nvPr/>
        </p:nvGrpSpPr>
        <p:grpSpPr>
          <a:xfrm>
            <a:off x="3492360" y="3133800"/>
            <a:ext cx="2231640" cy="1522440"/>
            <a:chOff x="3492360" y="3133800"/>
            <a:chExt cx="2231640" cy="1522440"/>
          </a:xfrm>
        </p:grpSpPr>
        <p:sp>
          <p:nvSpPr>
            <p:cNvPr id="218" name="Oval 40"/>
            <p:cNvSpPr/>
            <p:nvPr/>
          </p:nvSpPr>
          <p:spPr>
            <a:xfrm>
              <a:off x="3492360" y="3133800"/>
              <a:ext cx="22316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Oval 41"/>
            <p:cNvSpPr/>
            <p:nvPr/>
          </p:nvSpPr>
          <p:spPr>
            <a:xfrm>
              <a:off x="3524760" y="3152880"/>
              <a:ext cx="215676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42"/>
            <p:cNvSpPr/>
            <p:nvPr/>
          </p:nvSpPr>
          <p:spPr>
            <a:xfrm>
              <a:off x="3550320" y="3162240"/>
              <a:ext cx="210816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43"/>
            <p:cNvSpPr/>
            <p:nvPr/>
          </p:nvSpPr>
          <p:spPr>
            <a:xfrm>
              <a:off x="3573360" y="3176640"/>
              <a:ext cx="200376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44"/>
            <p:cNvSpPr/>
            <p:nvPr/>
          </p:nvSpPr>
          <p:spPr>
            <a:xfrm>
              <a:off x="3692160" y="3213000"/>
              <a:ext cx="178056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3" name="Text Box 45"/>
          <p:cNvSpPr/>
          <p:nvPr/>
        </p:nvSpPr>
        <p:spPr>
          <a:xfrm>
            <a:off x="3635280" y="3573360"/>
            <a:ext cx="20876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одростковая 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школ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250920" y="26028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d528d"/>
                </a:solidFill>
                <a:latin typeface="Arial"/>
              </a:rPr>
              <a:t>Возрастные характеристики мотивации учения</a:t>
            </a:r>
            <a:endParaRPr b="1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7093080" y="0"/>
            <a:ext cx="2050920" cy="189000"/>
          </a:xfrm>
          <a:prstGeom prst="rect">
            <a:avLst/>
          </a:prstGeom>
          <a:solidFill>
            <a:srgbClr val="1b9ad9"/>
          </a:solidFill>
          <a:ln w="93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7667640" y="6524640"/>
            <a:ext cx="115236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052640"/>
            <a:ext cx="3419640" cy="19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ация достижений высоких результатов по значимым предметам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3429000"/>
            <a:ext cx="2700360" cy="2397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начимость отметки как мотиватора снижается, отметка выступает не мотиватором, а критерием качества знаний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484360" y="5805360"/>
            <a:ext cx="4753080" cy="1197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нутренняя, собственная мотивация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443640" y="3141720"/>
            <a:ext cx="2700360" cy="22870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ыбор предмета с позиции будущего (выбор будущего с позиции любимого предмета)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582880" y="1036800"/>
            <a:ext cx="3058200" cy="185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ация продолжения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образования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 профессиональных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учебных заведениях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 rot="5400000">
            <a:off x="4248720" y="49759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2916360" y="2205000"/>
            <a:ext cx="3384360" cy="3438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40" name="Group 17"/>
          <p:cNvGrpSpPr/>
          <p:nvPr/>
        </p:nvGrpSpPr>
        <p:grpSpPr>
          <a:xfrm>
            <a:off x="3492360" y="2205000"/>
            <a:ext cx="360360" cy="360360"/>
            <a:chOff x="3492360" y="2205000"/>
            <a:chExt cx="360360" cy="360360"/>
          </a:xfrm>
        </p:grpSpPr>
        <p:sp>
          <p:nvSpPr>
            <p:cNvPr id="241" name="Oval 18"/>
            <p:cNvSpPr/>
            <p:nvPr/>
          </p:nvSpPr>
          <p:spPr>
            <a:xfrm>
              <a:off x="3492360" y="2205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Oval 19"/>
            <p:cNvSpPr/>
            <p:nvPr/>
          </p:nvSpPr>
          <p:spPr>
            <a:xfrm>
              <a:off x="3508200" y="2235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43" name="Group 20"/>
          <p:cNvGrpSpPr/>
          <p:nvPr/>
        </p:nvGrpSpPr>
        <p:grpSpPr>
          <a:xfrm>
            <a:off x="2556000" y="3716280"/>
            <a:ext cx="360360" cy="360360"/>
            <a:chOff x="2556000" y="3716280"/>
            <a:chExt cx="360360" cy="360360"/>
          </a:xfrm>
        </p:grpSpPr>
        <p:sp>
          <p:nvSpPr>
            <p:cNvPr id="244" name="Oval 21"/>
            <p:cNvSpPr/>
            <p:nvPr/>
          </p:nvSpPr>
          <p:spPr>
            <a:xfrm>
              <a:off x="2556000" y="3716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Oval 22"/>
            <p:cNvSpPr/>
            <p:nvPr/>
          </p:nvSpPr>
          <p:spPr>
            <a:xfrm>
              <a:off x="2571840" y="3746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46" name="Group 26"/>
          <p:cNvGrpSpPr/>
          <p:nvPr/>
        </p:nvGrpSpPr>
        <p:grpSpPr>
          <a:xfrm>
            <a:off x="5292720" y="2133720"/>
            <a:ext cx="360360" cy="360360"/>
            <a:chOff x="5292720" y="2133720"/>
            <a:chExt cx="360360" cy="360360"/>
          </a:xfrm>
        </p:grpSpPr>
        <p:sp>
          <p:nvSpPr>
            <p:cNvPr id="247" name="Oval 27"/>
            <p:cNvSpPr/>
            <p:nvPr/>
          </p:nvSpPr>
          <p:spPr>
            <a:xfrm>
              <a:off x="5292720" y="2133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8" name="Oval 28"/>
            <p:cNvSpPr/>
            <p:nvPr/>
          </p:nvSpPr>
          <p:spPr>
            <a:xfrm>
              <a:off x="5308560" y="2163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49" name="Group 29"/>
          <p:cNvGrpSpPr/>
          <p:nvPr/>
        </p:nvGrpSpPr>
        <p:grpSpPr>
          <a:xfrm>
            <a:off x="6156360" y="3716280"/>
            <a:ext cx="360360" cy="360360"/>
            <a:chOff x="6156360" y="3716280"/>
            <a:chExt cx="360360" cy="360360"/>
          </a:xfrm>
        </p:grpSpPr>
        <p:sp>
          <p:nvSpPr>
            <p:cNvPr id="250" name="Oval 30"/>
            <p:cNvSpPr/>
            <p:nvPr/>
          </p:nvSpPr>
          <p:spPr>
            <a:xfrm>
              <a:off x="6156360" y="3716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Oval 31"/>
            <p:cNvSpPr/>
            <p:nvPr/>
          </p:nvSpPr>
          <p:spPr>
            <a:xfrm>
              <a:off x="6172200" y="3746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52" name="Group 32"/>
          <p:cNvGrpSpPr/>
          <p:nvPr/>
        </p:nvGrpSpPr>
        <p:grpSpPr>
          <a:xfrm>
            <a:off x="4500720" y="5516640"/>
            <a:ext cx="360360" cy="360360"/>
            <a:chOff x="4500720" y="5516640"/>
            <a:chExt cx="360360" cy="360360"/>
          </a:xfrm>
        </p:grpSpPr>
        <p:sp>
          <p:nvSpPr>
            <p:cNvPr id="253" name="Oval 33"/>
            <p:cNvSpPr/>
            <p:nvPr/>
          </p:nvSpPr>
          <p:spPr>
            <a:xfrm>
              <a:off x="4500720" y="5516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Oval 34"/>
            <p:cNvSpPr/>
            <p:nvPr/>
          </p:nvSpPr>
          <p:spPr>
            <a:xfrm>
              <a:off x="4516560" y="55465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2ddf2"/>
                </a:gs>
                <a:gs pos="100000">
                  <a:srgbClr val="1b9ad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5" name="Oval 35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Oval 36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6ccff">
                  <a:alpha val="32156"/>
                </a:srgbClr>
              </a:gs>
              <a:gs pos="100000">
                <a:srgbClr val="2f5e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Oval 37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76e8a"/>
              </a:gs>
              <a:gs pos="50000">
                <a:srgbClr val="66ccff"/>
              </a:gs>
              <a:gs pos="100000">
                <a:srgbClr val="376e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Oval 38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182a2"/>
              </a:gs>
              <a:gs pos="100000">
                <a:srgbClr val="66cc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9" name="Group 39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260" name="Oval 40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Oval 41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Oval 42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Oval 43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44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5" name="Text Box 45"/>
          <p:cNvSpPr/>
          <p:nvPr/>
        </p:nvSpPr>
        <p:spPr>
          <a:xfrm>
            <a:off x="3778200" y="3573360"/>
            <a:ext cx="16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Старшая школ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>
            <a:off x="250920" y="26028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d528d"/>
                </a:solidFill>
                <a:latin typeface="Arial"/>
              </a:rPr>
              <a:t>Возрастные характеристики мотивации учения</a:t>
            </a:r>
            <a:endParaRPr b="1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Rectangle 47"/>
          <p:cNvSpPr/>
          <p:nvPr/>
        </p:nvSpPr>
        <p:spPr>
          <a:xfrm>
            <a:off x="7164360" y="0"/>
            <a:ext cx="1800360" cy="189000"/>
          </a:xfrm>
          <a:prstGeom prst="rect">
            <a:avLst/>
          </a:prstGeom>
          <a:solidFill>
            <a:srgbClr val="1b9ad9"/>
          </a:solidFill>
          <a:ln w="93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Rectangle 48"/>
          <p:cNvSpPr/>
          <p:nvPr/>
        </p:nvSpPr>
        <p:spPr>
          <a:xfrm>
            <a:off x="7667640" y="6524640"/>
            <a:ext cx="122544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AutoShape 39"/>
          <p:cNvSpPr/>
          <p:nvPr/>
        </p:nvSpPr>
        <p:spPr>
          <a:xfrm>
            <a:off x="4140360" y="422100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Специфические потребности 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альчиков и девочек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 rot="10800000">
            <a:off x="395280" y="2133360"/>
            <a:ext cx="8569440" cy="223200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108000" y="1268280"/>
            <a:ext cx="903600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1b9ad9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мулирующая роль организации учебного процесса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251000" y="2443320"/>
            <a:ext cx="674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d528d"/>
                </a:solidFill>
                <a:latin typeface="Arial"/>
              </a:rPr>
              <a:t>Использование </a:t>
            </a:r>
            <a:endParaRPr b="1" lang="en-US" sz="2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d528d"/>
                </a:solidFill>
                <a:latin typeface="Arial"/>
              </a:rPr>
              <a:t>специальных стимулов, </a:t>
            </a:r>
            <a:endParaRPr b="1" lang="en-US" sz="2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d528d"/>
                </a:solidFill>
                <a:latin typeface="Arial"/>
              </a:rPr>
              <a:t>опирающихся на четыре</a:t>
            </a:r>
            <a:r>
              <a:rPr b="1" lang="en-US" sz="2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1d528d"/>
                </a:solidFill>
                <a:latin typeface="Arial"/>
              </a:rPr>
              <a:t>группы</a:t>
            </a:r>
            <a:r>
              <a:rPr b="1" lang="en-US" sz="2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1d528d"/>
                </a:solidFill>
                <a:latin typeface="Arial"/>
              </a:rPr>
              <a:t>потребностей</a:t>
            </a:r>
            <a:endParaRPr b="1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AutoShape 35"/>
          <p:cNvSpPr/>
          <p:nvPr/>
        </p:nvSpPr>
        <p:spPr>
          <a:xfrm>
            <a:off x="0" y="4005360"/>
            <a:ext cx="2556000" cy="1152360"/>
          </a:xfrm>
          <a:prstGeom prst="roundRect">
            <a:avLst>
              <a:gd name="adj" fmla="val 9106"/>
            </a:avLst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Общечеловеческие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отребности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0" y="303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528d"/>
                </a:solidFill>
                <a:latin typeface="Arial"/>
              </a:rPr>
              <a:t>Эффективная мотивация учения</a:t>
            </a:r>
            <a:endParaRPr b="1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AutoShape 38"/>
          <p:cNvSpPr/>
          <p:nvPr/>
        </p:nvSpPr>
        <p:spPr>
          <a:xfrm>
            <a:off x="2411280" y="4581360"/>
            <a:ext cx="1800360" cy="990720"/>
          </a:xfrm>
          <a:prstGeom prst="roundRect">
            <a:avLst>
              <a:gd name="adj" fmla="val 9106"/>
            </a:avLst>
          </a:prstGeom>
          <a:solidFill>
            <a:srgbClr val="cc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озрастные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отребности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AutoShape 40"/>
          <p:cNvSpPr/>
          <p:nvPr/>
        </p:nvSpPr>
        <p:spPr>
          <a:xfrm>
            <a:off x="6797520" y="5157720"/>
            <a:ext cx="2346480" cy="846360"/>
          </a:xfrm>
          <a:prstGeom prst="roundRect">
            <a:avLst>
              <a:gd name="adj" fmla="val 9106"/>
            </a:avLst>
          </a:prstGeom>
          <a:solidFill>
            <a:srgbClr val="cc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Индивидуальные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отребности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Rectangle 41"/>
          <p:cNvSpPr/>
          <p:nvPr/>
        </p:nvSpPr>
        <p:spPr>
          <a:xfrm>
            <a:off x="7164360" y="0"/>
            <a:ext cx="1979640" cy="189000"/>
          </a:xfrm>
          <a:prstGeom prst="rect">
            <a:avLst/>
          </a:prstGeom>
          <a:solidFill>
            <a:srgbClr val="1b9ad9"/>
          </a:solidFill>
          <a:ln w="9360">
            <a:solidFill>
              <a:srgbClr val="1b9a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Rectangle 42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0:21:00Z</dcterms:created>
  <dc:creator>Наталья</dc:creator>
  <dc:description/>
  <dc:language>en-US</dc:language>
  <cp:lastModifiedBy>Анна</cp:lastModifiedBy>
  <dcterms:modified xsi:type="dcterms:W3CDTF">2024-12-22T19:39:30Z</dcterms:modified>
  <cp:revision>16</cp:revision>
  <dc:subject/>
  <dc:title>ТЕМА ПЕДСОВЕТА:       «Формирование учебной мотивации школьников как средство              повышения эффективности познавательного процесса»</dc:title>
</cp:coreProperties>
</file>