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F2DA-A8A6-44EC-AEE1-54EB86317A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68C1-9121-4283-A26B-CED33FBCA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963-01F8-49F0-9586-DA3FA3E7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C63-8019-441E-B49A-F2958751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4F55B-D66D-43D0-BD56-B851B6B0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4649A-3C81-4B1C-B02E-825D9965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0EBC2-31BB-4E39-8F9D-75110445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AF244-8856-456B-86D0-AF676A3F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D2D24-ADB3-453F-99B2-90D3D302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7FCC2-4940-40DE-9DBD-44E2BCCB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E4710-B9E3-441B-93CA-D1C071CA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0F297-10C5-4FBC-B3DB-FC63BE61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5573E-A38A-421C-A926-41E7A38E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B4302-C807-4955-9775-D0D4D416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B94-F83A-4F9C-86C6-849B7B01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860EA-1F91-41CD-99BC-B4C5D7E9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537C6-2BE5-4072-A429-543290A8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DDA70-CB8D-4245-8005-FC45EE71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D07DB-2943-473C-8E6F-9461C672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A25C9-69D8-4F34-891A-481FDD20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15924-EBAA-415B-B789-40A7CD36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3B972-A5BE-4D78-BFE6-91F2B78C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08AE7-B9E4-4072-BC96-701FF205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96952-11F1-433C-8094-FE5B6501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5D6EE-A666-41B2-95F3-F185C014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EE9-4392-45EE-9B05-0699DFC7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1502E-C5F4-4EB5-8D7E-FA5DEF19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F0CC4-2D46-4E71-8E0A-B64D2BD0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03E5D-EECD-4929-9CFC-80D596A5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11CA4-932E-4BCD-AD51-D1A34DBB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5776D-851F-491C-B394-BFDC1D0B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66FBE-F689-4CC6-BBCA-3BBD32CF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4D62A-E0C1-4CCB-ACE7-51DEAE3E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E5FC5-8E00-494A-9FFB-9AC7208A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33022-9CA2-40A1-B793-9BCBB1D0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3C2CA-69F6-4997-9695-4A782071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DB3E-B7D6-47BB-B730-D2FE8690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F586C-792E-41E6-BFBB-F23EA7D4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CC02B-6B7B-4DA1-A2A5-34BB3276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BDCFB-18B2-457F-850D-9D977A4C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E6F81-7040-43DA-9E76-EFB831D5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BBD36-5450-4799-89F9-D45E1079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570BF-0C47-4C94-B87E-BEF13248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E22CF-45FA-4249-8C13-DE058552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7C1FD-BC90-4284-87D3-86F18B0E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84A56-31B5-4E10-91E1-38BBD0BC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93EAC-7FC4-4677-9B8F-4C4DD82C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E040-6A41-4BA0-BD6F-7C7E65C2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9479D-E007-495E-9CB1-1159D826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EF79D-031E-4B86-B911-BCB11B3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CAB75-6D1A-42E8-9CCA-6CDF8D73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01C24-AEF5-47BB-B2BD-0BC3ADF2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34688-458E-4607-B28C-FCC724B6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4AA39-DF74-4ECF-B239-9A15E826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2322F-747C-4441-9CDA-2D81A7C8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86D78-2B78-4E58-A3F2-66EEDB3E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2D0D0-0E15-4C59-9A0E-37A20A89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89ED7-EBB6-4E9F-BEE1-E99323E4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F4B2-1F7D-4730-8455-1767DB5B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F4690-DB44-4993-9452-0FB6ABED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946EA-C51F-4C9F-BC3C-121265FC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192FB-928F-4C49-B37E-A60C89C7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D32E9-57B9-4757-9B57-D235F94A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27981-28F0-4EB8-9A3E-4817D342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AAB7D-D89D-422B-B0FB-5605E8D1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71510-3A5D-4C89-BFE9-A5F469E1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EAB95-7421-4BC8-91E8-4366BD22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29836-1419-408A-9710-69CBA197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90016-62AA-4E5C-BC4E-F91986A9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E6FC-A65B-4EF6-BCDA-11AD5708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6B1C8-93C2-4CCE-9D68-B86D8F3B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0059E-8468-4ACF-B9B0-68C911A8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5DD46-1F95-4D07-8380-4A49F21D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7FC884-236A-469D-86CC-41F6A8AE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A9FA4-3B2D-4C64-B322-A888C09A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19809-5C3C-469F-AFDB-2DD2276A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153D6-2E3E-4CC1-8845-706FE3BE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88721-DA6A-4F1F-A608-322217B1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DBAFA-D0B9-45C2-998D-F01799FD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A595-4455-4A46-8C7C-24A8A7C4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1795-B4D0-448D-9F74-E6A125EB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1587-C200-453B-B0D4-BE80A2A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28E-8195-4AFB-AFF3-4481E1D1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58D4-8349-4AE9-87D2-4CBBD931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B42C-985C-47E7-AEDD-6613A2A5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B371-DF71-426A-8F20-56D10D75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6BC8-F5CE-4E29-A3EC-08AB2A6D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8C9C-078F-4A34-B811-7CCF142D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61064-006A-4599-AD71-CDF9B159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9E188-3F70-43BC-95C6-1BE45F70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5148-583B-40DB-AA86-F8A6C79F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56BB-E34F-4CCF-8129-0E5BC969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61D2-6937-40DC-957A-923BE9DE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7EC-C2CF-4D37-8B6E-E324E46C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C9CC-B9ED-4966-8ABF-8A0CF213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F36C-D425-4822-9783-DDAB63D8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C0AF2-B8DC-4728-9E40-14E96A28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85C7D-0269-4C3D-8A92-E3B12516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0B52-365F-4542-90E9-E7A74194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F0F7-D834-41AC-BD98-115ABC9D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1F97-E25C-4E37-845E-6EA580AD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B950E-D624-4265-9F4A-B2BB9DAC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96BCD-6645-4E83-AD89-E8B75069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12A4-6D9B-461E-8007-1A64399E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048-215C-4F31-AFAC-348A37D8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6FBAD-2FAC-40DB-983E-D2925670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3EAD-92A6-420D-AF0C-D6F7210A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C9F69-1D6C-4F58-B553-1ED9FA52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FB8FF-6D96-4C90-9FB6-EC5347DB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FCF4D-877C-4F35-9352-9FFE1716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1B891-ED50-4155-8916-6ED3785F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D1AE6-F9F1-4606-8897-3648FFFB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378A2-16C1-4E59-A903-EAE7729F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4459F-DD69-44BB-81F8-15302CD2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09357-5C0F-4529-9BF8-2EA4AAD5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7D3-AE86-4B3F-8DA3-F397718F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336F5-7DF4-4E48-81E9-11B8E428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EC567-5B71-4DCD-BB57-F6BA0033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F352-F277-4C49-901E-6006E8DD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63624-477A-4948-9FC2-15E57F1D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14B9-09CB-456F-B430-0F094F07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3457E-B1A8-449B-B2C4-5A5B70F3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8975-1AEC-4723-9419-FB920F18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F7772-E9EA-49AE-A558-3F4A54CE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D8E31-19C4-4B01-90A1-FBCE7178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C949-8355-4117-952A-FB974BD7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CEE-65A6-4F8A-906D-31E146E3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CA0E0-9AB9-48BD-BDB0-980CEC2D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B15E6-7668-4486-B2B8-425764A9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6CDCC-E020-459E-B26E-2C14C73B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5ABB-49D9-487C-AF2B-E10FBB1B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59519-613D-4EF9-A7EB-FBE04792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2241C-FD4C-4A10-A842-23262DE3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923BC-CB20-4BE6-95DE-4E46F26D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DF8E4-8528-4114-9341-0B4F4897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223B5-E04C-471E-82B6-578BF724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FD310-5A5D-4E24-B837-1A9E86F3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0E7-C272-4D67-AAAA-5342EEFC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4C7DE-125D-4095-B0B2-27F3B370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0720F-1DE2-4A45-9222-C1173052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7A345-9916-4408-AE9D-B072EBE2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560A0-6512-4361-844E-28F122C8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7686C-E00E-4BF5-BE52-8C26390D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C71DE-BF14-4C77-AA3F-FA0C4716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16473-B407-4D41-BD1B-B740D12A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51925-C147-4498-A343-CE7A570A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96768-66A4-4214-9ABA-191C6FE6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D8BA9-D897-4C0E-A98B-E1F03740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EE8-8705-4ABA-A319-A2B1CC36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B43B7-4DB8-4E68-A40A-D2067F20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36475-4169-49EA-B362-D8CFEF26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88288-52E3-4B60-8AFD-E3DFBCF4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D2C38-E1D7-4168-A381-8C646382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3EE9E-7A4A-4A27-A01F-80E71D7E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59CE3-3062-4D40-8BD0-F8E3A8BB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AB438-CC34-4C21-A484-6453F84E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CF86C-9576-4D72-9A19-C0ED28B6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0583B-3096-4F93-B5F0-128255FB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93B7C-49D0-4E80-8AF5-2B9D36B4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5E5-7C9B-4E40-AFF0-C024516E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8F292-1BF4-4D91-AA80-44F1AF38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0C37A-094D-422E-B795-9E88B147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AC83E-B9C6-4798-94F0-5CC08FA7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57540-2BAF-4E8C-9015-313EB361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50B82-3A7C-457B-94E2-6F61558F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E01E3-0E1E-4062-9D31-2DEC8DAA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5CB43-5FF7-48E9-93A6-5307F059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A97AA-4D96-455A-ACEE-6B7F11E3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EDABA-F4C3-40A0-83A1-092F9498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336BF-06B7-4D7A-BF8C-8AE071E8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0CA0-1CC3-46BC-B6BB-94DAA153D94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42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A8B4-8F24-436A-B24A-EF6702EE3D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B50E-B479-40E0-85E1-69D769A5652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E648-4BC5-494E-B928-2B44D467D63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3A9C-A4B4-4C43-956D-4271F7FF08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59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2391-8002-47AF-BED8-70908646095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023C-6988-48FC-9839-D96792A73B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0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5F4C-7433-4390-8B58-C3BE4718A3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2326-5B22-4157-AFBA-26260C483E5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653C-DED8-4E18-A2D7-6BFFE5367E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7654-E550-4FBE-923D-91EC90DCC3E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FED2-7522-46DE-BBDE-1AA7D70504E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2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0A8E-1E2A-4B2E-9B19-A7E7A24D388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37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22C7-E21B-463F-A01A-D4EB94C2217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fipi.ru/content/otkrytyy-bank-zadaniy-eg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219640" y="5084280"/>
            <a:ext cx="375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ЧИТЕЛЬ ИСТОРИИ АНДРИЕНКО О.Н.</a:t>
            </a:r>
            <a:br>
              <a:rPr sz="1100"/>
            </a:br>
            <a:br>
              <a:rPr sz="1100"/>
            </a:br>
            <a:br>
              <a:rPr sz="1600"/>
            </a:br>
            <a:endParaRPr b="0" lang="en-US" sz="11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577960" y="691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ОЭТАПНАЯ ПОДГОТОВ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ОБУЧАЮЩИХСЯ К ЕГЭ П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ИСТОР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b0f0"/>
                </a:solidFill>
                <a:latin typeface="Corbel"/>
              </a:rPr>
              <a:t>12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62" name="Рисунок 2" descr="Исторический текст В7 решение"/>
          <p:cNvPicPr/>
          <p:nvPr/>
        </p:nvPicPr>
        <p:blipFill>
          <a:blip r:embed="rId1"/>
          <a:stretch/>
        </p:blipFill>
        <p:spPr>
          <a:xfrm>
            <a:off x="1258920" y="1285920"/>
            <a:ext cx="7527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дания 13 – 16 – работа с картографическим материал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Блок-схема: процесс 16"/>
          <p:cNvSpPr/>
          <p:nvPr/>
        </p:nvSpPr>
        <p:spPr>
          <a:xfrm>
            <a:off x="3429000" y="5715000"/>
            <a:ext cx="2928960" cy="285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Блок-схема: процесс 14"/>
          <p:cNvSpPr/>
          <p:nvPr/>
        </p:nvSpPr>
        <p:spPr>
          <a:xfrm>
            <a:off x="5286240" y="4143240"/>
            <a:ext cx="2928960" cy="12146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Блок-схема: процесс 15"/>
          <p:cNvSpPr/>
          <p:nvPr/>
        </p:nvSpPr>
        <p:spPr>
          <a:xfrm>
            <a:off x="1571760" y="4429080"/>
            <a:ext cx="2357280" cy="92880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ЧТО ПРОВЕРЯЕТСЯ?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Блок-схема: процесс 6"/>
          <p:cNvSpPr/>
          <p:nvPr/>
        </p:nvSpPr>
        <p:spPr>
          <a:xfrm>
            <a:off x="1643040" y="1143000"/>
            <a:ext cx="2928960" cy="135720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 ИСТОРИЧЕСКОЙ К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Блок-схема: процесс 7"/>
          <p:cNvSpPr/>
          <p:nvPr/>
        </p:nvSpPr>
        <p:spPr>
          <a:xfrm>
            <a:off x="1500120" y="3286080"/>
            <a:ext cx="2928960" cy="12146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ФАКТИЧЕСК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Блок-схема: процесс 9"/>
          <p:cNvSpPr/>
          <p:nvPr/>
        </p:nvSpPr>
        <p:spPr>
          <a:xfrm>
            <a:off x="5286240" y="1143000"/>
            <a:ext cx="2928960" cy="1428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ИСТОРИКО-ГЕОГРАФИЧЕСКИХ ОБЪЕКТОВ И ИХ РАСПОЛОЖЕНИЕ В СИСТЕМЕ ДРУГИХ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Блок-схема: процесс 12"/>
          <p:cNvSpPr/>
          <p:nvPr/>
        </p:nvSpPr>
        <p:spPr>
          <a:xfrm>
            <a:off x="5286240" y="3214800"/>
            <a:ext cx="2928960" cy="128592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ЧИТАТЬ ИСТОРИЧЕСКУЮ КАРТУ С ОПОРОЙ НА ЛЕГЕН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Задания 13 – 16 – работа с картографическим материало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75" name="Picture 3" descr="C:\Documents and Settings\Admin\Мои документы\Downloads\image003.jpg"/>
          <p:cNvPicPr/>
          <p:nvPr/>
        </p:nvPicPr>
        <p:blipFill>
          <a:blip r:embed="rId1"/>
          <a:stretch/>
        </p:blipFill>
        <p:spPr>
          <a:xfrm>
            <a:off x="1500120" y="1357200"/>
            <a:ext cx="70725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Алгоритм работы с картой на ЕГЭ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ы видим перед собой карту. Задача – понять, что на ней изображен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ая карту и её легенду, мы понимаем, о каких событиях карта нам рассказывает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ы «даём» название карте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относим имеющиеся у нас знания, взятые из учебника и атласа, с изображенными на карте событиям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твечаем на заданные к карте вопрос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Что изображено на карте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Если это война, то какая война 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С кем воевала  Россия?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Ко времени какого правителя относится?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Как определили, докажи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Что изображено под указанными цифрам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80" name="Picture 6" descr="get_file?id=7825"/>
          <p:cNvPicPr/>
          <p:nvPr/>
        </p:nvPicPr>
        <p:blipFill>
          <a:blip r:embed="rId1"/>
          <a:stretch/>
        </p:blipFill>
        <p:spPr>
          <a:xfrm>
            <a:off x="857160" y="404640"/>
            <a:ext cx="464364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дания 18-19 - работа с иллюстративным материал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Corbel"/>
              </a:rPr>
              <a:t>Алгорит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созд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, при котором создан данный памятник культу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созд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, скульптор, художник, художественный стиль, течение в искусств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ассоциируется с данным памятником (какому событию или историческому лицу посвящен, какие события происходили рядом с ним и т.п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имер разбора архитектурного памятника (Успенский собор)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86" name="Picture 2" descr="C:\Documents and Settings\Admin\Мои документы\Downloads\img934-1.jpg"/>
          <p:cNvPicPr/>
          <p:nvPr/>
        </p:nvPicPr>
        <p:blipFill>
          <a:blip r:embed="rId1"/>
          <a:stretch/>
        </p:blipFill>
        <p:spPr>
          <a:xfrm>
            <a:off x="1143000" y="1428840"/>
            <a:ext cx="4071960" cy="52149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создания: 1475-1479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: Московский Кремль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: Иван III (1462-1505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: Аристотель Фиораванти (итальянец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информация: создан по аналогии с Успенским собором во Владимире, до XVIII в. являлся усыпальницей митрополитов московских, место коронации великих князей, царей и император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опрос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пишите, что вы видите на карикатуре (кого символизируют персонажи, на основании чего вы определили персонажей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обытие какого века и десятилетия изображено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Какому событию посвящена карикатура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азовите деятелей, фамилии которых обозначены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Что такое Антанта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Что иллюстрирует карикатура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90" name="Рисунок 7" descr="https://hist-ege.sdamgia.ru/get_file?id=34512"/>
          <p:cNvPicPr/>
          <p:nvPr/>
        </p:nvPicPr>
        <p:blipFill>
          <a:blip r:embed="rId1"/>
          <a:stretch/>
        </p:blipFill>
        <p:spPr>
          <a:xfrm>
            <a:off x="900000" y="1557360"/>
            <a:ext cx="4392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Заголовок 1" descr=""/>
          <p:cNvPicPr/>
          <p:nvPr/>
        </p:nvPicPr>
        <p:blipFill>
          <a:blip r:embed="rId1"/>
          <a:stretch/>
        </p:blipFill>
        <p:spPr>
          <a:xfrm>
            <a:off x="1438200" y="274680"/>
            <a:ext cx="7497720" cy="114624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етодические рекомендации для учителей, подготовленные на основе анализа типичных ошибок участников ЕГЭ  по истории (сейчас это 2020 год) ФИПИ  И.А.Артас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моверсия, спецификация, кодификато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Методические материалы для председателей и       членов предметных комиссий субъектов РФ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правку об изменениях в КИМ  ЕГЭ от ФИП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428760"/>
            <a:ext cx="782964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пишите каждый памятник : найдите сходство и различ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ое слово объединяет образы памятник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спользуя Интернет найдите краткую информацию по каждому памятник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93" name="Picture 5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8643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24-Задание на аргументацию («за и против»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нии  представлена од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онная точка зрения по какой-либ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ой проблеме. Выпускнику необходимо привест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ва аргумен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ми мож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тверд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ую точ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ния,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ва аргумен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овергнуть её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беда "красных" объясняется не их силой, а слабостью и ошибками их противников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исторические знания, приведит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ва аргумен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ми можно п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твердит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ую точку зрения, и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ва аргумен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ми можн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овергнуть её. 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ложении аргументов обязательно используйте исторические фак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в следующем вид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ы в подтверждение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…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…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ы в опровержение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…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…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Признаки тоталитарного режима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ложился ли он в СССР в 30-ег.?».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434960" y="1447920"/>
          <a:ext cx="7499520" cy="387648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оказатель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диная партия у в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ульт личности и харизматичный вож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пре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мандная (плановая)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нтроль над обществ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диная идеология, запрет оп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ильная армия и поли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Ценз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бщие рекомендации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434960" y="1071360"/>
            <a:ext cx="74995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иучать выпускников работать по строго заданному алгоритм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Развивать монологическую (устную и письменную) речь обучающихся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Выстраивать систему работы с обучающимися по развитию умений анализировать, систематизировать, классифицировать различные исторические источники, в том числе: тексты, карты, таблицы, аудио и визуальные источники и т. д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 обсуждении дискуссионных вопросов вырабатывать у школьников умение делать обоснованный выбор точки зрения на те или иные ключевые события и способность ее аргументировано отстаивать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Организовать работу обучающихся с Открытым банком заданий ЕГЭ по истории на сайте ФИПИ (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http://www.fipi.ru/content/otkrytyy-bank-zadaniy-eg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orbel"/>
              </a:rPr>
              <a:t>Спасибо за внимание 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Заголовок 1" descr=""/>
          <p:cNvPicPr/>
          <p:nvPr/>
        </p:nvPicPr>
        <p:blipFill>
          <a:blip r:embed="rId1"/>
          <a:stretch/>
        </p:blipFill>
        <p:spPr>
          <a:xfrm>
            <a:off x="1438200" y="208080"/>
            <a:ext cx="749772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8" name=""/>
          <p:cNvGraphicFramePr/>
          <p:nvPr/>
        </p:nvGraphicFramePr>
        <p:xfrm>
          <a:off x="928800" y="1143000"/>
          <a:ext cx="8005680" cy="5519880"/>
        </p:xfrm>
        <a:graphic>
          <a:graphicData uri="http://schemas.openxmlformats.org/drawingml/2006/table">
            <a:tbl>
              <a:tblPr/>
              <a:tblGrid>
                <a:gridCol w="4003560"/>
                <a:gridCol w="4002120"/>
              </a:tblGrid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ИСТОРИЧЕСКИХ ЛИЧ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 6,1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ИСТОРИЧЕСКИМИ ИСТОЧНИК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13-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КАРТОГРАФИЧЕСКИМ МАТЕРИАЛ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НА ЗНАНИЕ ФАКТОВ ИСТОРИИ 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1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18-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ИЛЛЮСТРАТИВНОГО МАТЕРИ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Я 2 ЧАС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сторических фактов, процессов, явл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– Анализ различных точек зрения и их защи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- Историческое сочин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я 6,10,12 – работа с историческими источниками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Памятка </a:t>
            </a:r>
            <a:r>
              <a:rPr b="0" lang="ru-RU" sz="4000" spc="-1" strike="noStrike">
                <a:solidFill>
                  <a:srgbClr val="0070c0"/>
                </a:solidFill>
                <a:latin typeface="Corbel"/>
              </a:rPr>
              <a:t>«</a:t>
            </a:r>
            <a:r>
              <a:rPr b="1" lang="ru-RU" sz="4000" spc="-1" strike="noStrike">
                <a:solidFill>
                  <a:srgbClr val="0070c0"/>
                </a:solidFill>
                <a:latin typeface="Corbel"/>
              </a:rPr>
              <a:t>Как работать с текстом ЕГЭ по истории?»</a:t>
            </a:r>
            <a:r>
              <a:rPr b="0" lang="ru-RU" sz="3900" spc="-1" strike="noStrike">
                <a:solidFill>
                  <a:srgbClr val="0070c0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с текстом ЕГЭ по истории необходимо выделять в не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ючевые мысли, имена, да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се, что может помочь идентифицировать события, описывающиеся в нем, период, о котором идет речь или его созд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ботайте прямо в КИМе, не теряя время на переписыва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нимательно прочитайте задание, определите, что именно от Вас требуется и сколько элементов ответа нужно да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Памятка </a:t>
            </a:r>
            <a:r>
              <a:rPr b="0" lang="ru-RU" sz="3600" spc="-1" strike="noStrike">
                <a:solidFill>
                  <a:srgbClr val="0070c0"/>
                </a:solidFill>
                <a:latin typeface="Corbel"/>
              </a:rPr>
              <a:t>«</a:t>
            </a:r>
            <a:r>
              <a:rPr b="1" lang="ru-RU" sz="3600" spc="-1" strike="noStrike">
                <a:solidFill>
                  <a:srgbClr val="0070c0"/>
                </a:solidFill>
                <a:latin typeface="Corbel"/>
              </a:rPr>
              <a:t>Как работать с текстом ЕГЭ по истории?»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исьменной 2 част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писывайте ответ максимально формально приближенно к заданию, так чтобы эксперт четко видел, на какой элемент задания Вы даете отв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умеруйте элементы ответа, если это дано в формулировке зад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b0f0"/>
                </a:solidFill>
                <a:latin typeface="Corbel"/>
              </a:rPr>
              <a:t>10 </a:t>
            </a:r>
            <a:r>
              <a:rPr b="0" lang="ru-RU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ние 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74296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b0f0"/>
                </a:solidFill>
                <a:latin typeface="Corbel"/>
              </a:rPr>
              <a:t>10 </a:t>
            </a:r>
            <a:r>
              <a:rPr b="0" lang="ru-RU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ние 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60" name="Объект 4" descr=""/>
          <p:cNvPicPr/>
          <p:nvPr/>
        </p:nvPicPr>
        <p:blipFill>
          <a:blip r:embed="rId1"/>
          <a:srcRect l="29812" t="23969" r="22112" b="20515"/>
          <a:stretch/>
        </p:blipFill>
        <p:spPr>
          <a:xfrm>
            <a:off x="1403280" y="1203480"/>
            <a:ext cx="75312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5T15:51:05Z</dcterms:created>
  <dc:creator>Admin</dc:creator>
  <dc:description/>
  <dc:language>en-US</dc:language>
  <cp:lastModifiedBy>Admin</cp:lastModifiedBy>
  <dcterms:modified xsi:type="dcterms:W3CDTF">2022-04-06T13:56:41Z</dcterms:modified>
  <cp:revision>48</cp:revision>
  <dc:subject/>
  <dc:title>ПОЭТАПНАЯ ПОДГОТОВКА ОБУЧАЮЩИХСЯ К ЕГЭ ПО ИСТОРИИ.</dc:title>
</cp:coreProperties>
</file>