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291-FD5D-483E-8D30-0E58298B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E5C-6D7D-435A-9A69-CB0BB9ED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CD21C-A53B-429C-9AEF-B14B39EB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448F1-C412-4D8F-88BB-324F28F5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44BA9-0ABE-418C-9003-94B9A054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2A5D0-0A3D-4CC6-9BC5-F0922F02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3C57E-E20B-4D7B-A4C5-F3FAB2D3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CB4D1-189C-4921-B4A2-B8FD1D6E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78807-FD88-4697-9219-09C7EEF7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0F480-01ED-4DE3-B358-C959FE6D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0CE13-2D77-4CA8-AB36-D81DF86B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62E-BD2E-409F-B8B6-8D3083F8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DBB-0D15-4C27-BB6D-2F0EC843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72CC-B6CA-45E6-A395-23E73704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AFF9-682D-4452-B890-EBE69F00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E89F-8104-4278-BAA7-418E1160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F1C4-54DD-48FC-AAE3-9A670C72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7A0B-7AA0-4052-98E7-8F95D50E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3102-A5DD-4FD1-B173-15794129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4E02-7709-4C26-8C9C-CC3E35FD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3AD-E07B-4FE7-848E-ACEC98FA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E617-226D-40A6-989A-72E0A76D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F789-A8FF-4FF4-81FE-18B00D80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F29F-86CC-4B6C-B949-D8ED22D9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CACA-8D5A-4A17-8C8E-35BBAEDE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3057-1D2E-4C80-8EA4-EE81412C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A8631-06B1-4F33-A534-6704F6AA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D330-28A6-4171-B169-D49BB17A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725A-595C-4EA6-8CFF-AF996260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911B-0846-455D-ACD0-E0133ABA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EFA5-FB33-4956-A874-571F01D9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178-32A2-4E9F-849D-1CAF39F8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A37D-E888-40DD-A042-4B143878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F875-AAB9-4556-9F1A-D37C1BE2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809D-331C-421C-BC6A-E116CE8E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BE7F5-031C-4304-87B8-966C2CCF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CB34E-6D6F-4BE4-85EE-79E0AAB8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4D396-D8D7-4E31-BE1D-EFC5BD7F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29162-165B-4B4B-B6AA-417E3A74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C735C-DA5A-481A-AFC5-5C9CBCF8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3167-283F-469B-8956-FBC6BD7D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D51A5-A7A8-45DF-849D-ED8EB264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3EA9-EFB8-4F59-9F67-4DF9F721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86CF-53FF-4166-ABA8-7E4B199A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7BCC1-2C46-44D9-AB99-DE5841D6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BF15E-FBFA-408D-8F9F-DCBDB584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6493-FA49-4396-949A-37B734A7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492F-77FD-4283-B207-E0BDB25D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7817-3A74-493A-9497-037B53C0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6A42-5AFB-4E04-8DEB-F61B5FE2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7117-CBA1-458F-AF8B-831D8AD4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9655D-66C7-49BB-B9F2-C112C7B1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674F6-F43C-4BC9-8835-B0D27841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491-81CA-48D8-87D3-F988350D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B7247-3B7B-4058-82B3-3FFBF3E8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074F-3A01-4FCD-B132-E4FDDE38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9C51C-E3BC-45EB-B703-545A5747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4E70D-64D8-484F-BD7F-FCFFA867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6BB62-B1A6-4D09-8847-ABE0A30E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982F5-D7EB-4AF8-AB40-DFC2EAEB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D1A74-4C12-4A81-AB00-92D5D55B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C1F07-A965-4B70-B992-15A86332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2159C-95BF-461C-A52B-7AD3FA8E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BD56-28EE-4637-AE58-FC0FC846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C316-2BD1-4287-ACFC-D4D4982D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77061-2A49-4FC7-976E-8C7F6F77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E6433-3A9B-414B-A81F-F95CD939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9CB50-B77A-402A-B47B-5EB13979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E6EA4-35DC-49B5-910E-CB15CC7E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24B7D-3D59-491B-A98B-351C8AEB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7B4F8-47A2-4041-AFD6-B5BD8AFA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A2768-0007-4BBF-8CD0-1A0CC01F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78E59-6D91-4E4E-ADE8-33039587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30E2F-F929-4228-98FD-8F9C9D54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D970C-A61B-4C1F-8E75-94384B2F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BC6-F068-46DE-8D6C-C5F4B888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E32FD-B4A4-49D8-8248-29C0A925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3462-96E7-4A60-A777-A0E81B7D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399E9-BDD7-4EEB-989E-5AED84FC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D897D-6A6B-4D7E-BF9B-0FDDD35A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BB981-FE53-43F3-A964-19441474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FE438-7D51-471B-B332-6276B6FE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78E59-6B1C-4BEA-9B59-B2C71E19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41656-F505-40A0-BA1F-A0012989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EF4A1-FC9F-4455-AC86-4E773A30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6E3CE-413E-4330-9D15-A56FCE51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4A2-C8D4-4165-A28E-18998A01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F638A-0480-4201-92F1-A06F41C3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15914-4E0B-4F62-9143-93E7A082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49529-4DEC-461F-AFA0-2FCE197B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F8A67-C2B0-402F-BAE3-C87408B4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E9A66-96B6-4E46-9D65-B7AC5978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C0990-F1CE-4A82-A4C6-C6007562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75F74-2070-46E0-A06B-B7F49B9D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056E-BA27-430C-A7DE-D515B0B7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54934-EA79-4533-828F-F31F5B75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24365-C676-426D-B0FD-3C57C998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718-A5C7-4B29-9940-4576E4F6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52658-AC72-45E3-8258-E9545B5D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0952C-2D0B-40AC-A304-3752B2F2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0B3B8-B5BB-461A-B172-A08A3795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1EE72-D816-4995-B9C9-32FD694A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4DC24-C642-43E1-9216-9C60A99D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C584E-3508-4310-98BF-95B195A1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ECF9F-4C8D-4918-B795-B5266D09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F1516-F222-440C-A311-2616EA35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B5433-D06F-4F25-9007-DFA6A0BA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59418-A35B-4E4E-A4E3-20573C43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3A38-B82E-49E8-8689-7D0D373AB34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07D6-6928-49C9-9F96-379BBE1B1D9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F2EB-9C38-4DDA-9B96-7FF85520611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CA5F-7C21-48D6-A261-8C1653DA978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B8AC-8CE6-4FBD-8701-CDA92C0D6A4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0E82-E6E5-4A04-AE12-7D18B8C29E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EBBF-BF7B-47AF-B654-B318909899F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E69E-F94D-4747-84BD-8C055CA3C42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B5F6-5FCD-4EDC-9331-3D9B2609652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wordscloud.pythonanywher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Ментальные карты, карты ума, карты мыслей   (в оригинале Mind maps) "/>
          <p:cNvPicPr/>
          <p:nvPr/>
        </p:nvPicPr>
        <p:blipFill>
          <a:blip r:embed="rId2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4" name="Picture 2" descr="img8"/>
          <p:cNvPicPr/>
          <p:nvPr/>
        </p:nvPicPr>
        <p:blipFill>
          <a:blip r:embed="rId1"/>
          <a:stretch/>
        </p:blipFill>
        <p:spPr>
          <a:xfrm>
            <a:off x="1643040" y="1557360"/>
            <a:ext cx="602928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6" name="Picture 2" descr="slide-2"/>
          <p:cNvPicPr/>
          <p:nvPr/>
        </p:nvPicPr>
        <p:blipFill>
          <a:blip r:embed="rId1"/>
          <a:stretch/>
        </p:blipFill>
        <p:spPr>
          <a:xfrm>
            <a:off x="1627200" y="1554120"/>
            <a:ext cx="604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Picture 2" descr="slide-10"/>
          <p:cNvPicPr/>
          <p:nvPr/>
        </p:nvPicPr>
        <p:blipFill>
          <a:blip r:embed="rId1"/>
          <a:stretch/>
        </p:blipFill>
        <p:spPr>
          <a:xfrm>
            <a:off x="1403280" y="1387440"/>
            <a:ext cx="655344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slide-11"/>
          <p:cNvPicPr/>
          <p:nvPr/>
        </p:nvPicPr>
        <p:blipFill>
          <a:blip r:embed="rId2"/>
          <a:stretch/>
        </p:blipFill>
        <p:spPr>
          <a:xfrm>
            <a:off x="1332000" y="1268280"/>
            <a:ext cx="6729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s://wordscloud.pythonanywhere.com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26T15:25:18Z</dcterms:created>
  <dc:creator>Пользователь</dc:creator>
  <dc:description/>
  <dc:language>en-US</dc:language>
  <cp:lastModifiedBy>Пользователь</cp:lastModifiedBy>
  <dcterms:modified xsi:type="dcterms:W3CDTF">2023-02-26T16:35:29Z</dcterms:modified>
  <cp:revision>8</cp:revision>
  <dc:subject/>
  <dc:title>Приемы работы с текстом</dc:title>
</cp:coreProperties>
</file>